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423A-369E-4157-B60B-EC0C43B87198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67A7-4C95-4AAB-8049-C0397DD6AD8A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65669-6845-400F-9508-810C3F4925B1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9F34-B4E0-4225-BD9C-584C7E918BE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ECB1-EF08-4939-8F07-F4567ABD18AC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7502-A9EE-4046-8320-4893F46A260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9380-95C3-417A-B0B3-B0B536420C2D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DFDF-60E9-45D6-BD19-C85D254F7C9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8DC7-0D3D-4D2D-9CA0-DF71DD8894C4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66F1-5912-4711-81F7-7E1A2ECABDC6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2308-04A4-4161-A3CE-8D43C5CFE17F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5337-4879-4AFD-AE3D-461DD29EF5E0}" type="slidenum">
              <a:rPr b="0" lang="gl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6DA8-E2C8-4456-A98C-92A28166F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E5452-38E8-49B0-B718-DB8B13300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A944-CC77-49A3-9BDE-D1EB9F902C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D130-BFA5-4BE9-8731-94174BC404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C5989-94B0-4617-811C-D57C407B76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1647E-ED2D-4B31-ADD3-BCE8364D9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15E81-AE89-4086-B49E-616E11F57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3427-BF67-4C36-8FBB-8165E70C7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32E1-F39C-447E-9A0A-1C7A301EB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1D2F-B9AE-4CB2-BA4E-73380F5BC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A5F3-A4E8-4141-9A38-3291E25A3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966EF-BE26-4D02-A543-6C38AEF36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gl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774E-1BFB-40D0-B1BC-6B05787F82A6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4B8B-4102-43E0-B68C-DF1A74C7D7CE}" type="slidenum">
              <a:rPr b="0" lang="gl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6669000"/>
            <a:ext cx="9144000" cy="27648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d.:Vía Láct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3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gradFill rotWithShape="0">
            <a:gsLst>
              <a:gs pos="0">
                <a:srgbClr val="f4fafa"/>
              </a:gs>
              <a:gs pos="100000">
                <a:srgbClr val="ffe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200" spc="-1" strike="noStrike">
                <a:solidFill>
                  <a:srgbClr val="000000"/>
                </a:solidFill>
                <a:latin typeface="Arial"/>
              </a:rPr>
              <a:t>Química 2º Bacharelato                              EQUILIBRIOS RED –OX                                      Exerc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6000" spc="-1" strike="noStrike">
                <a:solidFill>
                  <a:srgbClr val="000000"/>
                </a:solidFill>
                <a:latin typeface="Arial"/>
              </a:rPr>
              <a:t>Reaccións de oxidación-reducc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g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oxídase a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C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20"/>
          <p:cNvSpPr/>
          <p:nvPr/>
        </p:nvSpPr>
        <p:spPr>
          <a:xfrm>
            <a:off x="356400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C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a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+ 2 C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5364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6"/>
          <p:cNvSpPr/>
          <p:nvPr/>
        </p:nvSpPr>
        <p:spPr>
          <a:xfrm>
            <a:off x="6156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0"/>
                            </p:stCondLst>
                            <p:childTnLst>
                              <p:par>
                                <p:cTn id="51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24500"/>
                            </p:stCondLst>
                            <p:childTnLst>
                              <p:par>
                                <p:cTn id="5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29500"/>
                            </p:stCondLst>
                            <p:childTnLst>
                              <p:par>
                                <p:cTn id="5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315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8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43500"/>
                            </p:stCondLst>
                            <p:childTnLst>
                              <p:par>
                                <p:cTn id="54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1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4550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2500"/>
                            </p:stCondLst>
                            <p:childTnLst>
                              <p:par>
                                <p:cTn id="5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7500"/>
                            </p:stCondLst>
                            <p:childTnLst>
                              <p:par>
                                <p:cTn id="55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5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75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7500"/>
                            </p:stCondLst>
                            <p:childTnLst>
                              <p:par>
                                <p:cTn id="5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9500"/>
                            </p:stCondLst>
                            <p:childTnLst>
                              <p:par>
                                <p:cTn id="5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5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9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1500"/>
                            </p:stCondLst>
                            <p:childTnLst>
                              <p:par>
                                <p:cTn id="5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9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27500"/>
                            </p:stCondLst>
                            <p:childTnLst>
                              <p:par>
                                <p:cTn id="5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43500"/>
                            </p:stCondLst>
                            <p:childTnLst>
                              <p:par>
                                <p:cTn id="60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h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250920" y="4357800"/>
            <a:ext cx="590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0"/>
          <p:cNvSpPr/>
          <p:nvPr/>
        </p:nvSpPr>
        <p:spPr>
          <a:xfrm>
            <a:off x="2843280" y="2565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1"/>
          <p:cNvSpPr/>
          <p:nvPr/>
        </p:nvSpPr>
        <p:spPr>
          <a:xfrm>
            <a:off x="250920" y="4791240"/>
            <a:ext cx="504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2"/>
          <p:cNvSpPr/>
          <p:nvPr/>
        </p:nvSpPr>
        <p:spPr>
          <a:xfrm>
            <a:off x="971640" y="5734080"/>
            <a:ext cx="36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I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442764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0"/>
                            </p:stCondLst>
                            <p:childTnLst>
                              <p:par>
                                <p:cTn id="61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7500"/>
                            </p:stCondLst>
                            <p:childTnLst>
                              <p:par>
                                <p:cTn id="62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9500"/>
                            </p:stCondLst>
                            <p:childTnLst>
                              <p:par>
                                <p:cTn id="63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315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8500"/>
                            </p:stCondLst>
                            <p:childTnLst>
                              <p:par>
                                <p:cTn id="6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43500"/>
                            </p:stCondLst>
                            <p:childTnLst>
                              <p:par>
                                <p:cTn id="6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55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2500"/>
                            </p:stCondLst>
                            <p:childTnLst>
                              <p:par>
                                <p:cTn id="6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7500"/>
                            </p:stCondLst>
                            <p:childTnLst>
                              <p:par>
                                <p:cTn id="65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5" dur="2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75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0500"/>
                            </p:stCondLst>
                            <p:childTnLst>
                              <p:par>
                                <p:cTn id="6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3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17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6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3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22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6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34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2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i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468360" y="156384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nitróx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1"/>
          <p:cNvSpPr/>
          <p:nvPr/>
        </p:nvSpPr>
        <p:spPr>
          <a:xfrm>
            <a:off x="320364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50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7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7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24500"/>
                            </p:stCondLst>
                            <p:childTnLst>
                              <p:par>
                                <p:cTn id="7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315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38500"/>
                            </p:stCondLst>
                            <p:childTnLst>
                              <p:par>
                                <p:cTn id="7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43500"/>
                            </p:stCondLst>
                            <p:childTnLst>
                              <p:par>
                                <p:cTn id="7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4550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57500"/>
                            </p:stCondLst>
                            <p:childTnLst>
                              <p:par>
                                <p:cTn id="7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49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7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64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67500"/>
                            </p:stCondLst>
                            <p:childTnLst>
                              <p:par>
                                <p:cTn id="7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9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7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7500"/>
                            </p:stCondLst>
                            <p:childTnLst>
                              <p:par>
                                <p:cTn id="7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9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1500"/>
                            </p:stCondLst>
                            <p:childTnLst>
                              <p:par>
                                <p:cTn id="78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29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k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39640" y="1557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0"/>
          <p:cNvSpPr/>
          <p:nvPr/>
        </p:nvSpPr>
        <p:spPr>
          <a:xfrm>
            <a:off x="4284720" y="162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3"/>
          <p:cNvSpPr/>
          <p:nvPr/>
        </p:nvSpPr>
        <p:spPr>
          <a:xfrm>
            <a:off x="3924360" y="10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u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3"/>
          <p:cNvSpPr/>
          <p:nvPr/>
        </p:nvSpPr>
        <p:spPr>
          <a:xfrm>
            <a:off x="53820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7500"/>
                            </p:stCondLst>
                            <p:childTnLst>
                              <p:par>
                                <p:cTn id="8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4500"/>
                            </p:stCondLst>
                            <p:childTnLst>
                              <p:par>
                                <p:cTn id="81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9500"/>
                            </p:stCondLst>
                            <p:childTnLst>
                              <p:par>
                                <p:cTn id="8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3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1500"/>
                            </p:stCondLst>
                            <p:childTnLst>
                              <p:par>
                                <p:cTn id="82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3500"/>
                            </p:stCondLst>
                            <p:childTnLst>
                              <p:par>
                                <p:cTn id="8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33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45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50500"/>
                            </p:stCondLst>
                            <p:childTnLst>
                              <p:par>
                                <p:cTn id="8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3500"/>
                            </p:stCondLst>
                            <p:childTnLst>
                              <p:par>
                                <p:cTn id="8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3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50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7500"/>
                            </p:stCondLst>
                            <p:childTnLst>
                              <p:par>
                                <p:cTn id="8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7500"/>
                            </p:stCondLst>
                            <p:childTnLst>
                              <p:par>
                                <p:cTn id="8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95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87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295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l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61128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4572000" y="155736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2"/>
          <p:cNvSpPr/>
          <p:nvPr/>
        </p:nvSpPr>
        <p:spPr>
          <a:xfrm>
            <a:off x="6516720" y="1052640"/>
            <a:ext cx="1224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3"/>
          <p:cNvSpPr/>
          <p:nvPr/>
        </p:nvSpPr>
        <p:spPr>
          <a:xfrm>
            <a:off x="3924360" y="1052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21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Zn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3"/>
          <p:cNvSpPr/>
          <p:nvPr/>
        </p:nvSpPr>
        <p:spPr>
          <a:xfrm>
            <a:off x="61128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24"/>
          <p:cNvSpPr/>
          <p:nvPr/>
        </p:nvSpPr>
        <p:spPr>
          <a:xfrm>
            <a:off x="493236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0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9" dur="5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0"/>
                            </p:stCondLst>
                            <p:childTnLst>
                              <p:par>
                                <p:cTn id="89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7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2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0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31500"/>
                            </p:stCondLst>
                            <p:childTnLst>
                              <p:par>
                                <p:cTn id="90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1" dur="5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43500"/>
                            </p:stCondLst>
                            <p:childTnLst>
                              <p:par>
                                <p:cTn id="9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455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505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3500"/>
                            </p:stCondLst>
                            <p:childTnLst>
                              <p:par>
                                <p:cTn id="9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7500"/>
                            </p:stCondLst>
                            <p:childTnLst>
                              <p:par>
                                <p:cTn id="9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7500"/>
                            </p:stCondLst>
                            <p:childTnLst>
                              <p:par>
                                <p:cTn id="9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4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9500"/>
                            </p:stCondLst>
                            <p:childTnLst>
                              <p:par>
                                <p:cTn id="94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21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295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m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138560" y="2565360"/>
            <a:ext cx="172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lo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0"/>
          <p:cNvSpPr/>
          <p:nvPr/>
        </p:nvSpPr>
        <p:spPr>
          <a:xfrm>
            <a:off x="3852720" y="25574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1"/>
          <p:cNvSpPr/>
          <p:nvPr/>
        </p:nvSpPr>
        <p:spPr>
          <a:xfrm>
            <a:off x="250920" y="4791240"/>
            <a:ext cx="655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Cl-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22"/>
          <p:cNvSpPr/>
          <p:nvPr/>
        </p:nvSpPr>
        <p:spPr>
          <a:xfrm>
            <a:off x="971640" y="573408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Mn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0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1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01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5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0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1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7500"/>
                            </p:stCondLst>
                            <p:childTnLst>
                              <p:par>
                                <p:cTn id="10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9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3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9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4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26500"/>
                            </p:stCondLst>
                            <p:childTnLst>
                              <p:par>
                                <p:cTn id="10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3450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fill="hold">
                            <p:stCondLst>
                              <p:cond delay="42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n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I +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468360" y="15638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630072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7020000" y="1052640"/>
            <a:ext cx="12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995640" y="1052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5"/>
          <p:cNvSpPr/>
          <p:nvPr/>
        </p:nvSpPr>
        <p:spPr>
          <a:xfrm>
            <a:off x="320364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21"/>
          <p:cNvSpPr/>
          <p:nvPr/>
        </p:nvSpPr>
        <p:spPr>
          <a:xfrm>
            <a:off x="250920" y="4791240"/>
            <a:ext cx="554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I + 8 H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(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26"/>
          <p:cNvSpPr/>
          <p:nvPr/>
        </p:nvSpPr>
        <p:spPr>
          <a:xfrm>
            <a:off x="4500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27"/>
          <p:cNvSpPr/>
          <p:nvPr/>
        </p:nvSpPr>
        <p:spPr>
          <a:xfrm>
            <a:off x="450072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8"/>
          <p:cNvSpPr/>
          <p:nvPr/>
        </p:nvSpPr>
        <p:spPr>
          <a:xfrm>
            <a:off x="4932360" y="105264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0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9" dur="5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0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5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0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5" dur="2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9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9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5" dur="2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59500"/>
                            </p:stCondLst>
                            <p:childTnLst>
                              <p:par>
                                <p:cTn id="1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9" dur="5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645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6750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3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43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14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4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34500"/>
                            </p:stCondLst>
                            <p:childTnLst>
                              <p:par>
                                <p:cTn id="115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4" dur="5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fill="hold">
                            <p:stCondLst>
                              <p:cond delay="42500"/>
                            </p:stCondLst>
                            <p:childTnLst>
                              <p:par>
                                <p:cTn id="1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1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ñ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oxídase a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468360" y="155736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516720" y="1052640"/>
            <a:ext cx="108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3852720" y="105264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Cu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21"/>
          <p:cNvSpPr/>
          <p:nvPr/>
        </p:nvSpPr>
        <p:spPr>
          <a:xfrm>
            <a:off x="2916360" y="5734080"/>
            <a:ext cx="48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Cu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u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22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23"/>
          <p:cNvSpPr/>
          <p:nvPr/>
        </p:nvSpPr>
        <p:spPr>
          <a:xfrm>
            <a:off x="4572000" y="198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24"/>
          <p:cNvSpPr/>
          <p:nvPr/>
        </p:nvSpPr>
        <p:spPr>
          <a:xfrm>
            <a:off x="4788000" y="1052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1" dur="5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7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5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9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3" dur="5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38500"/>
                            </p:stCondLst>
                            <p:childTnLst>
                              <p:par>
                                <p:cTn id="119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43500"/>
                            </p:stCondLst>
                            <p:childTnLst>
                              <p:par>
                                <p:cTn id="11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9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3" dur="5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50500"/>
                            </p:stCondLst>
                            <p:childTnLst>
                              <p:par>
                                <p:cTn id="12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fill="hold">
                            <p:stCondLst>
                              <p:cond delay="53500"/>
                            </p:stCondLst>
                            <p:childTnLst>
                              <p:par>
                                <p:cTn id="12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9" dur="2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1" dur="5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12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7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9500"/>
                            </p:stCondLst>
                            <p:childTnLst>
                              <p:par>
                                <p:cTn id="122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fill="hold">
                            <p:stCondLst>
                              <p:cond delay="21500"/>
                            </p:stCondLst>
                            <p:childTnLst>
                              <p:par>
                                <p:cTn id="12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8" dur="5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2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o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I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468360" y="1563840"/>
            <a:ext cx="38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c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1"/>
          <p:cNvSpPr/>
          <p:nvPr/>
        </p:nvSpPr>
        <p:spPr>
          <a:xfrm>
            <a:off x="6227640" y="105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"/>
          <p:cNvSpPr/>
          <p:nvPr/>
        </p:nvSpPr>
        <p:spPr>
          <a:xfrm>
            <a:off x="7093080" y="1052640"/>
            <a:ext cx="115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3"/>
          <p:cNvSpPr/>
          <p:nvPr/>
        </p:nvSpPr>
        <p:spPr>
          <a:xfrm>
            <a:off x="4067280" y="105264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5"/>
          <p:cNvSpPr/>
          <p:nvPr/>
        </p:nvSpPr>
        <p:spPr>
          <a:xfrm>
            <a:off x="3203640" y="2565360"/>
            <a:ext cx="208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súmase a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250920" y="43578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20"/>
          <p:cNvSpPr/>
          <p:nvPr/>
        </p:nvSpPr>
        <p:spPr>
          <a:xfrm>
            <a:off x="2987640" y="2565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21"/>
          <p:cNvSpPr/>
          <p:nvPr/>
        </p:nvSpPr>
        <p:spPr>
          <a:xfrm>
            <a:off x="250920" y="4791240"/>
            <a:ext cx="5761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22"/>
          <p:cNvSpPr/>
          <p:nvPr/>
        </p:nvSpPr>
        <p:spPr>
          <a:xfrm>
            <a:off x="971640" y="57340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KI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K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7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414036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427640" y="1916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5003640" y="105264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fill="hold">
                      <p:stCondLst>
                        <p:cond delay="0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9" dur="5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12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12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73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43500"/>
                            </p:stCondLst>
                            <p:childTnLst>
                              <p:par>
                                <p:cTn id="12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83" dur="2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45500"/>
                            </p:stCondLst>
                            <p:childTnLst>
                              <p:par>
                                <p:cTn id="1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7" dur="5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28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57500"/>
                            </p:stCondLst>
                            <p:childTnLst>
                              <p:par>
                                <p:cTn id="12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3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5" dur="5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0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1" dur="2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1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21" dur="2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2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34500"/>
                            </p:stCondLst>
                            <p:childTnLst>
                              <p:par>
                                <p:cTn id="13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31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2" fill="hold">
                            <p:stCondLst>
                              <p:cond delay="36500"/>
                            </p:stCondLst>
                            <p:childTnLst>
                              <p:par>
                                <p:cTn id="133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48500"/>
                            </p:stCondLst>
                            <p:childTnLst>
                              <p:par>
                                <p:cTn id="134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6500"/>
                            </p:stCondLst>
                            <p:childTnLst>
                              <p:par>
                                <p:cTn id="1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5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p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Fe + HCl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11"/>
          <p:cNvSpPr/>
          <p:nvPr/>
        </p:nvSpPr>
        <p:spPr>
          <a:xfrm>
            <a:off x="680400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3"/>
          <p:cNvSpPr/>
          <p:nvPr/>
        </p:nvSpPr>
        <p:spPr>
          <a:xfrm>
            <a:off x="4930920" y="105264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5"/>
          <p:cNvSpPr/>
          <p:nvPr/>
        </p:nvSpPr>
        <p:spPr>
          <a:xfrm>
            <a:off x="3203640" y="2565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inco, e a 1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21"/>
          <p:cNvSpPr/>
          <p:nvPr/>
        </p:nvSpPr>
        <p:spPr>
          <a:xfrm>
            <a:off x="250920" y="4791240"/>
            <a:ext cx="8137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5 Fe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22"/>
          <p:cNvSpPr/>
          <p:nvPr/>
        </p:nvSpPr>
        <p:spPr>
          <a:xfrm>
            <a:off x="971640" y="5734080"/>
            <a:ext cx="698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Fe + 16 HCl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5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KCl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39640" y="2997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457200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0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6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29500"/>
                            </p:stCondLst>
                            <p:childTnLst>
                              <p:par>
                                <p:cTn id="13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7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3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1" dur="5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43500"/>
                            </p:stCondLst>
                            <p:childTnLst>
                              <p:par>
                                <p:cTn id="138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7" dur="2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45500"/>
                            </p:stCondLst>
                            <p:childTnLst>
                              <p:par>
                                <p:cTn id="1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1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2500"/>
                            </p:stCondLst>
                            <p:childTnLst>
                              <p:par>
                                <p:cTn id="13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5" fill="hold">
                            <p:stCondLst>
                              <p:cond delay="57500"/>
                            </p:stCondLst>
                            <p:childTnLst>
                              <p:par>
                                <p:cTn id="13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97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41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15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41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42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2" dur="5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2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2500"/>
                            </p:stCondLst>
                            <p:childTnLst>
                              <p:par>
                                <p:cTn id="1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3" dur="5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.- Escribe a fórmula e indica o número de oxidación de cada elemento nos seguintes compostos ou ió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00000" y="1484280"/>
            <a:ext cx="6913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  Perclorato de calcio ou tetraoxoclorato (VII)  de calcio  Ca(Cl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Ca . . . 2,    Cl. . . -7,   O. . . -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900000" y="2349360"/>
            <a:ext cx="7344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ón carbonato ou ion trioxocarbonato (IV)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C. . . 4, 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900000" y="3078000"/>
            <a:ext cx="8064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Nitrito de aluminio ou trioxonitrato (V) de alumini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l(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Al. . . 3,   N. . . -5,     O. . . -2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900000" y="4076640"/>
            <a:ext cx="7920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icromato de potasio ou heptaoxocromato ((VI) de potas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7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K. . . 1,     Cr. . . 6,  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900000" y="5013360"/>
            <a:ext cx="81360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Ion permanganato ou ion tetraoxomanganato (VI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Mn. . . 7,   O. . .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900000" y="5877000"/>
            <a:ext cx="813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Hidróxido de ferro (III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gl-E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Fe. . . 3,    O. . . -2,   H. . .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q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+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6227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2"/>
          <p:cNvSpPr/>
          <p:nvPr/>
        </p:nvSpPr>
        <p:spPr>
          <a:xfrm>
            <a:off x="39243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3"/>
          <p:cNvSpPr/>
          <p:nvPr/>
        </p:nvSpPr>
        <p:spPr>
          <a:xfrm>
            <a:off x="4643280" y="1052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5"/>
          <p:cNvSpPr/>
          <p:nvPr/>
        </p:nvSpPr>
        <p:spPr>
          <a:xfrm>
            <a:off x="3203640" y="2565360"/>
            <a:ext cx="34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tres, e a 1ª por dez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17928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0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6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átomos de io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20"/>
          <p:cNvSpPr/>
          <p:nvPr/>
        </p:nvSpPr>
        <p:spPr>
          <a:xfrm>
            <a:off x="5148360" y="25653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1"/>
          <p:cNvSpPr/>
          <p:nvPr/>
        </p:nvSpPr>
        <p:spPr>
          <a:xfrm>
            <a:off x="250920" y="4791240"/>
            <a:ext cx="806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6 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2"/>
          <p:cNvSpPr/>
          <p:nvPr/>
        </p:nvSpPr>
        <p:spPr>
          <a:xfrm>
            <a:off x="971640" y="573408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3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10 NO + 6 HI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3"/>
          <p:cNvSpPr/>
          <p:nvPr/>
        </p:nvSpPr>
        <p:spPr>
          <a:xfrm>
            <a:off x="4714920" y="314172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492360" y="2565360"/>
            <a:ext cx="136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25"/>
          <p:cNvSpPr/>
          <p:nvPr/>
        </p:nvSpPr>
        <p:spPr>
          <a:xfrm>
            <a:off x="539640" y="34290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6"/>
          <p:cNvSpPr/>
          <p:nvPr/>
        </p:nvSpPr>
        <p:spPr>
          <a:xfrm>
            <a:off x="4714920" y="342900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7"/>
          <p:cNvSpPr/>
          <p:nvPr/>
        </p:nvSpPr>
        <p:spPr>
          <a:xfrm>
            <a:off x="5867280" y="2565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8"/>
          <p:cNvSpPr/>
          <p:nvPr/>
        </p:nvSpPr>
        <p:spPr>
          <a:xfrm>
            <a:off x="6732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4" dur="indefinite" restart="never" nodeType="tmRoot">
          <p:childTnLst>
            <p:seq>
              <p:cTn id="1435" dur="indefinite" nodeType="mainSeq">
                <p:childTnLst>
                  <p:par>
                    <p:cTn id="1436" fill="hold">
                      <p:stCondLst>
                        <p:cond delay="0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7" dur="5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145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6" fill="hold">
                            <p:stCondLst>
                              <p:cond delay="24500"/>
                            </p:stCondLst>
                            <p:childTnLst>
                              <p:par>
                                <p:cTn id="1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4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61" dur="2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2" fill="hold">
                            <p:stCondLst>
                              <p:cond delay="31500"/>
                            </p:stCondLst>
                            <p:childTnLst>
                              <p:par>
                                <p:cTn id="14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5" dur="5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38500"/>
                            </p:stCondLst>
                            <p:childTnLst>
                              <p:par>
                                <p:cTn id="14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4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71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48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81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3" dur="5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10500"/>
                            </p:stCondLst>
                            <p:childTnLst>
                              <p:par>
                                <p:cTn id="14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0" fill="hold">
                            <p:stCondLst>
                              <p:cond delay="12500"/>
                            </p:stCondLst>
                            <p:childTnLst>
                              <p:par>
                                <p:cTn id="1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0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0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09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5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4" fill="hold">
                            <p:stCondLst>
                              <p:cond delay="27500"/>
                            </p:stCondLst>
                            <p:childTnLst>
                              <p:par>
                                <p:cTn id="15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32500"/>
                            </p:stCondLst>
                            <p:childTnLst>
                              <p:par>
                                <p:cTn id="15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1" fill="hold">
                            <p:stCondLst>
                              <p:cond delay="35500"/>
                            </p:stCondLst>
                            <p:childTnLst>
                              <p:par>
                                <p:cTn id="15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3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40500"/>
                            </p:stCondLst>
                            <p:childTnLst>
                              <p:par>
                                <p:cTn id="15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29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42500"/>
                            </p:stCondLst>
                            <p:childTnLst>
                              <p:par>
                                <p:cTn id="15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54500"/>
                            </p:stCondLst>
                            <p:childTnLst>
                              <p:par>
                                <p:cTn id="15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1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62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r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K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Cl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651672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3"/>
          <p:cNvSpPr/>
          <p:nvPr/>
        </p:nvSpPr>
        <p:spPr>
          <a:xfrm>
            <a:off x="457200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059280" y="2565360"/>
            <a:ext cx="374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6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cinco, e a 2ª por dou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7"/>
          <p:cNvSpPr/>
          <p:nvPr/>
        </p:nvSpPr>
        <p:spPr>
          <a:xfrm>
            <a:off x="179280" y="4357800"/>
            <a:ext cx="896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0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0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os osíxenos con au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0"/>
          <p:cNvSpPr/>
          <p:nvPr/>
        </p:nvSpPr>
        <p:spPr>
          <a:xfrm>
            <a:off x="3635280" y="2565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 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22"/>
          <p:cNvSpPr/>
          <p:nvPr/>
        </p:nvSpPr>
        <p:spPr>
          <a:xfrm>
            <a:off x="971640" y="5734080"/>
            <a:ext cx="6913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KCl +  5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K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6 HCl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23"/>
          <p:cNvSpPr/>
          <p:nvPr/>
        </p:nvSpPr>
        <p:spPr>
          <a:xfrm>
            <a:off x="4500720" y="3068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os hidróxenos con prot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24"/>
          <p:cNvSpPr/>
          <p:nvPr/>
        </p:nvSpPr>
        <p:spPr>
          <a:xfrm>
            <a:off x="550692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25"/>
          <p:cNvSpPr/>
          <p:nvPr/>
        </p:nvSpPr>
        <p:spPr>
          <a:xfrm>
            <a:off x="539640" y="3357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26"/>
          <p:cNvSpPr/>
          <p:nvPr/>
        </p:nvSpPr>
        <p:spPr>
          <a:xfrm>
            <a:off x="629928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5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27"/>
          <p:cNvSpPr/>
          <p:nvPr/>
        </p:nvSpPr>
        <p:spPr>
          <a:xfrm>
            <a:off x="4211640" y="155736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28"/>
          <p:cNvSpPr/>
          <p:nvPr/>
        </p:nvSpPr>
        <p:spPr>
          <a:xfrm>
            <a:off x="3924360" y="1046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7" dur="5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5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5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36500"/>
                            </p:stCondLst>
                            <p:childTnLst>
                              <p:par>
                                <p:cTn id="158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39500"/>
                            </p:stCondLst>
                            <p:childTnLst>
                              <p:par>
                                <p:cTn id="15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8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6" fill="hold">
                            <p:stCondLst>
                              <p:cond delay="41500"/>
                            </p:stCondLst>
                            <p:childTnLst>
                              <p:par>
                                <p:cTn id="15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485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5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95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7" dur="5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75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3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4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1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6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23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7" dur="5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8" fill="hold">
                            <p:stCondLst>
                              <p:cond delay="27500"/>
                            </p:stCondLst>
                            <p:childTnLst>
                              <p:par>
                                <p:cTn id="162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1" fill="hold">
                            <p:stCondLst>
                              <p:cond delay="30500"/>
                            </p:stCondLst>
                            <p:childTnLst>
                              <p:par>
                                <p:cTn id="163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3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32500"/>
                            </p:stCondLst>
                            <p:childTnLst>
                              <p:par>
                                <p:cTn id="163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7" fill="hold">
                            <p:stCondLst>
                              <p:cond delay="36500"/>
                            </p:stCondLst>
                            <p:childTnLst>
                              <p:par>
                                <p:cTn id="16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0" dur="5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1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4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4" dur="5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4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O trioxonitrato (V) de hidróxeno reacciona co sulfuro de hidróxeno (gas) dando xofre e óxido de nitróxeno(II).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e e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395280" y="162720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4356000" y="1052640"/>
            <a:ext cx="432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  +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971640" y="206064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"/>
          <p:cNvSpPr/>
          <p:nvPr/>
        </p:nvSpPr>
        <p:spPr>
          <a:xfrm>
            <a:off x="3745080" y="1628640"/>
            <a:ext cx="514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8"/>
          <p:cNvSpPr/>
          <p:nvPr/>
        </p:nvSpPr>
        <p:spPr>
          <a:xfrm>
            <a:off x="395280" y="306864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oxídase a 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9"/>
          <p:cNvSpPr/>
          <p:nvPr/>
        </p:nvSpPr>
        <p:spPr>
          <a:xfrm>
            <a:off x="395280" y="213372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95280" y="2492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4572000" y="2492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3"/>
          <p:cNvSpPr/>
          <p:nvPr/>
        </p:nvSpPr>
        <p:spPr>
          <a:xfrm>
            <a:off x="7345440" y="1628640"/>
            <a:ext cx="936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4"/>
          <p:cNvSpPr/>
          <p:nvPr/>
        </p:nvSpPr>
        <p:spPr>
          <a:xfrm>
            <a:off x="4392720" y="162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5327640" y="162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826920" y="350208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3132000" y="3141720"/>
            <a:ext cx="165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250920" y="357192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9"/>
          <p:cNvSpPr/>
          <p:nvPr/>
        </p:nvSpPr>
        <p:spPr>
          <a:xfrm>
            <a:off x="4356000" y="36432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0"/>
          <p:cNvSpPr/>
          <p:nvPr/>
        </p:nvSpPr>
        <p:spPr>
          <a:xfrm>
            <a:off x="4716360" y="3139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1"/>
          <p:cNvSpPr/>
          <p:nvPr/>
        </p:nvSpPr>
        <p:spPr>
          <a:xfrm>
            <a:off x="5724360" y="31399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2"/>
          <p:cNvSpPr/>
          <p:nvPr/>
        </p:nvSpPr>
        <p:spPr>
          <a:xfrm>
            <a:off x="0" y="4148280"/>
            <a:ext cx="86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dous  a 1ª semireacción e por tres a 2ª e súman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3"/>
          <p:cNvSpPr/>
          <p:nvPr/>
        </p:nvSpPr>
        <p:spPr>
          <a:xfrm>
            <a:off x="250920" y="457992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NO  +  3 S +  6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6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4"/>
          <p:cNvSpPr/>
          <p:nvPr/>
        </p:nvSpPr>
        <p:spPr>
          <a:xfrm>
            <a:off x="250920" y="50846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324000" y="558972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6"/>
          <p:cNvSpPr/>
          <p:nvPr/>
        </p:nvSpPr>
        <p:spPr>
          <a:xfrm>
            <a:off x="3708360" y="6093000"/>
            <a:ext cx="4751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NO  +  3 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2" dur="indefinite" restart="never" nodeType="tmRoot">
          <p:childTnLst>
            <p:seq>
              <p:cTn id="1653" dur="indefinite" nodeType="mainSeq">
                <p:childTnLst>
                  <p:par>
                    <p:cTn id="1654" fill="hold">
                      <p:stCondLst>
                        <p:cond delay="0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4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6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6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6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0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31500"/>
                            </p:stCondLst>
                            <p:childTnLst>
                              <p:par>
                                <p:cTn id="168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38500"/>
                            </p:stCondLst>
                            <p:childTnLst>
                              <p:par>
                                <p:cTn id="16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fill="hold">
                            <p:stCondLst>
                              <p:cond delay="43500"/>
                            </p:stCondLst>
                            <p:childTnLst>
                              <p:par>
                                <p:cTn id="168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9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45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5" fill="hold">
                            <p:stCondLst>
                              <p:cond delay="52500"/>
                            </p:stCondLst>
                            <p:childTnLst>
                              <p:par>
                                <p:cTn id="169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fill="hold">
                            <p:stCondLst>
                              <p:cond delay="57500"/>
                            </p:stCondLst>
                            <p:childTnLst>
                              <p:par>
                                <p:cTn id="169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00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2" dur="5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95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18" dur="2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20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3" fill="hold">
                            <p:stCondLst>
                              <p:cond delay="23500"/>
                            </p:stCondLst>
                            <p:childTnLst>
                              <p:par>
                                <p:cTn id="172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fill="hold">
                            <p:stCondLst>
                              <p:cond delay="28500"/>
                            </p:stCondLst>
                            <p:childTnLst>
                              <p:par>
                                <p:cTn id="172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28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9" fill="hold">
                            <p:stCondLst>
                              <p:cond delay="30500"/>
                            </p:stCondLst>
                            <p:childTnLst>
                              <p:par>
                                <p:cTn id="1730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2" fill="hold">
                            <p:stCondLst>
                              <p:cond delay="34500"/>
                            </p:stCondLst>
                            <p:childTnLst>
                              <p:par>
                                <p:cTn id="17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73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9" dur="5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3500"/>
                            </p:stCondLst>
                            <p:childTnLst>
                              <p:par>
                                <p:cTn id="174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6" dur="5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3.-  b) Calcula o volume de sulfuro de hidróxeno a 50ºC e 1atm de presión necesario para reaccionar con 100 ml dunha disolución de ácido nítrico de concentración 0,1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1835280" y="1484280"/>
            <a:ext cx="55450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NO  +  3S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mol           3 m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0,01 mol    0,015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1" name="Object 25"/>
              <p:cNvSpPr txBox="1"/>
              <p:nvPr/>
            </p:nvSpPr>
            <p:spPr>
              <a:xfrm>
                <a:off x="1523880" y="3197160"/>
                <a:ext cx="6096240" cy="133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RT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RT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82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atm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ol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3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t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97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0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6" dur="5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4.-Dispós no laboratorio das seguintes especies químicas: Zn e Cu metais, trioxonitrato (V) de cinc, trioxonitrato (V) de cobre (II) e trioxonitrato (V) amónico. Constrúe con elas unha cela galvánica, indica os pasos a seguir. Sabendo qu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Cu) = 0,34V e 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/ Zn) = -0,76V, ¿poderías predicir a voltaxe que subministraría a túa cel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863640" y="551664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684360" y="2205000"/>
            <a:ext cx="792000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Preparar 250cc de disolución 1M dos tres s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Nun vaso de pptdos introduciría a disolución do sal de Zn e o Zn metal, coidando que este sobresaia do líquido. Noutro vaso  faría o mesmo co C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Enchería un tubo en U coa sal amónica, taparía as súas bocas con algodón e inverteríao de maneira que cada boca resultase dentro de cada un dos vasos de pptdos ci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º Conectaría con fío de cobre ambos metais. Con un galvanómetro no circuíto mediría a intensidade de corrente ou con un voltímetro comprobaría a volta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788000" y="5516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0" dur="indefinite" restart="never" nodeType="tmRoot">
          <p:childTnLst>
            <p:seq>
              <p:cTn id="1761" dur="indefinite" nodeType="mainSeq">
                <p:childTnLst>
                  <p:par>
                    <p:cTn id="1762" fill="hold">
                      <p:stCondLst>
                        <p:cond delay="0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7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76" nodeType="after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8" fill="hold">
                            <p:stCondLst>
                              <p:cond delay="27000"/>
                            </p:stCondLst>
                            <p:childTnLst>
                              <p:par>
                                <p:cTn id="17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164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5.-Realiza un esquema dunha pila na que participen os semipares Z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Zn e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M)/Cu. ¿Que tipo de especie química utilizarías para a construcción da ponte salina? Si os potenciais normais de ámbolos dous semipares son respectivamente -0,76V e 0,34V indica qué electrodo actuará como ánodo e cal como cátod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684360" y="2349360"/>
            <a:ext cx="41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// 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aq)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  Cu 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611280" y="37162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0,34 – ( -0,76) = 1,10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61128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nstruiría a ponte salina con o sal dun catión que non fora de cobre nin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2"/>
          <p:cNvSpPr/>
          <p:nvPr/>
        </p:nvSpPr>
        <p:spPr>
          <a:xfrm>
            <a:off x="684360" y="4292640"/>
            <a:ext cx="7416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ánodo é o electrodo no que ten lugar a oxidación, o de ci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átodo é o electrodo no que ten lugar a reducción, o de co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1" dur="indefinite" restart="never" nodeType="tmRoot">
          <p:childTnLst>
            <p:seq>
              <p:cTn id="1782" dur="indefinite" nodeType="mainSeq">
                <p:childTnLst>
                  <p:par>
                    <p:cTn id="1783" fill="hold">
                      <p:stCondLst>
                        <p:cond delay="0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9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6.-¿Que ocorrería se a unha disolución de sulfato de cobre (II) lle engadimos anacos de cinc? e ¿Que ocorrería se a unha disolución de sulfato de ferro (II) lle engadimos limaduras de cobre?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Cu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+0,34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Zn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76 V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611280" y="328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primeiro caso o cinc metálico é oxidado polo catión cobre. Ao ser maior o potencial de reducción do cobre, este é o que se redu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"/>
          <p:cNvSpPr/>
          <p:nvPr/>
        </p:nvSpPr>
        <p:spPr>
          <a:xfrm>
            <a:off x="611280" y="438480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segundo caso o cobre metálico non é oxidado polo catión ferro. Ao ser menor o potencial de reducción do ferro que o do cobre, o ferro non pode reducirse a costa de oxidar ao cobre me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0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7.-Trátase unha barra de ferro con HCl ¿Oxídarase a Fe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? . En caso afirmativo escribir a reacción red-ox que ten lugar  </a:t>
            </a:r>
            <a:br>
              <a:rPr sz="20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atos: potenciales de reducción</a:t>
            </a:r>
            <a:br>
              <a:rPr sz="1800"/>
            </a:b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/ Fe 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-0,44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539640" y="263700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potencial de reducción do hidróxeno é 0 &gt; -0,44 polo tanto que se reduce é o hidróxeno, e o ferro oxídas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611280" y="3716280"/>
            <a:ext cx="748980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redox será a suma das semireaccións de reducción e de oxid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en forma molecular res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+ 2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5" dur="indefinite" restart="never" nodeType="tmRoot">
          <p:childTnLst>
            <p:seq>
              <p:cTn id="1806" dur="indefinite" nodeType="mainSeq">
                <p:childTnLst>
                  <p:par>
                    <p:cTn id="1807" fill="hold">
                      <p:stCondLst>
                        <p:cond delay="0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after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8.-Realiza o esquema dunha cela na que ten lugar a descomposición electrolítica da auga. Indica a natureza dos gases xerados no ánodo e no cátodo.Calcula o volume de H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edido en c.n. que se obtén ao paso de 1F. 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539640" y="3789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1 mol (=22,4l)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96500C desprenden medio mol 11,2 litros de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Group 9"/>
          <p:cNvGrpSpPr/>
          <p:nvPr/>
        </p:nvGrpSpPr>
        <p:grpSpPr>
          <a:xfrm>
            <a:off x="468360" y="1916280"/>
            <a:ext cx="7489800" cy="1315080"/>
            <a:chOff x="468360" y="1916280"/>
            <a:chExt cx="7489800" cy="1315080"/>
          </a:xfrm>
        </p:grpSpPr>
        <p:sp>
          <p:nvSpPr>
            <p:cNvPr id="510" name="Text Box 3"/>
            <p:cNvSpPr/>
            <p:nvPr/>
          </p:nvSpPr>
          <p:spPr>
            <a:xfrm>
              <a:off x="468360" y="1916280"/>
              <a:ext cx="7489800" cy="13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ÁNODO    Oxidación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+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CÁTODO  Reducción:   4H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+  4e</a:t>
              </a:r>
              <a:r>
                <a:rPr b="0" lang="gl-ES" sz="1800" spc="-1" strike="noStrike" baseline="30000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Reacción     2 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gl-E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O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gl-ES" sz="1800" spc="-1" strike="noStrike">
                  <a:solidFill>
                    <a:srgbClr val="000000"/>
                  </a:solidFill>
                  <a:latin typeface="Arial"/>
                </a:rPr>
                <a:t>  +  2H</a:t>
              </a:r>
              <a:r>
                <a:rPr b="0" lang="gl-E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5"/>
            <p:cNvSpPr/>
            <p:nvPr/>
          </p:nvSpPr>
          <p:spPr>
            <a:xfrm flipV="1">
              <a:off x="4284720" y="1916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6"/>
            <p:cNvSpPr/>
            <p:nvPr/>
          </p:nvSpPr>
          <p:spPr>
            <a:xfrm flipV="1">
              <a:off x="5003640" y="234900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 flipV="1">
              <a:off x="471636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8"/>
            <p:cNvSpPr/>
            <p:nvPr/>
          </p:nvSpPr>
          <p:spPr>
            <a:xfrm flipV="1">
              <a:off x="3995640" y="270828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4" dur="indefinite" restart="never" nodeType="tmRoot">
          <p:childTnLst>
            <p:seq>
              <p:cTn id="1815" dur="indefinite" nodeType="mainSeq">
                <p:childTnLst>
                  <p:par>
                    <p:cTn id="1816" fill="hold">
                      <p:stCondLst>
                        <p:cond delay="0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afterEffect" fill="hold" presetClass="entr" presetID="2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0" dur="5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2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9.-Das seguintes ecuacións químicas indica cal é un proceso red-ox, e nel que se oxida, que se reduce, quen é o oxidante e cal o red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539640" y="3789360"/>
            <a:ext cx="7489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cloro redúcese a cloruro (diminúe o nº de o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bromuro oxídase a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oxidante é o cloro, capaz de oxidar ao br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reductor é o bromuro xa que reduce a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539640" y="1773360"/>
            <a:ext cx="74898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a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HCl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 Non hai cambios nos números de 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Br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B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"/>
          <p:cNvSpPr/>
          <p:nvPr/>
        </p:nvSpPr>
        <p:spPr>
          <a:xfrm flipV="1">
            <a:off x="2771640" y="26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4" dur="indefinite" restart="never" nodeType="tmRoot">
          <p:childTnLst>
            <p:seq>
              <p:cTn id="1825" dur="indefinite" nodeType="mainSeq">
                <p:childTnLst>
                  <p:par>
                    <p:cTn id="1826" fill="hold">
                      <p:stCondLst>
                        <p:cond delay="0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417600"/>
            <a:ext cx="9144000" cy="49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2.-Axusta polo método do ión-electrón, as seguintes ecua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27640" y="2649600"/>
            <a:ext cx="3743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356000" y="3429000"/>
            <a:ext cx="4788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3635280" y="4437000"/>
            <a:ext cx="5508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95280" y="270828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osíxeno engadindo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395280" y="1700280"/>
            <a:ext cx="360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grupo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redúce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S libre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5003640" y="1773360"/>
            <a:ext cx="360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395280" y="3429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se o hidróxeno con 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95280" y="443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xústanse as cargas con e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395280" y="537372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icamos por un núm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al que iguale os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4"/>
          <p:cNvSpPr/>
          <p:nvPr/>
        </p:nvSpPr>
        <p:spPr>
          <a:xfrm>
            <a:off x="3635280" y="5373720"/>
            <a:ext cx="50054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5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5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0.-Comenta as seguintes afirmacións indicando , de forma razoada, se che parecen correctas ou corrixíndoas no seu ca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468360" y="3003480"/>
            <a:ext cx="74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Condicións estándar referidas a unha cela electroquímica, implican sempre concentracións 1M para especies iónicas en di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539640" y="1773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Nunha cela electroquímica a oxidación ten sempre lugar no án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468360" y="46594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1800" spc="-1" strike="noStrike">
                <a:solidFill>
                  <a:srgbClr val="000000"/>
                </a:solidFill>
                <a:latin typeface="Arial"/>
              </a:rPr>
              <a:t>Toda reacción red-ox que en condicións estándar transcorren espontaneamente, presenta unha Eº &l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1187280" y="2133720"/>
            <a:ext cx="74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ánodo da cela os anións A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º  oxídan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8"/>
          <p:cNvSpPr/>
          <p:nvPr/>
        </p:nvSpPr>
        <p:spPr>
          <a:xfrm>
            <a:off x="1258920" y="3860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 especies iónicas en disolución son mais que as que entran no proceso red-ox, o enunciado non é corre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1258920" y="5300640"/>
            <a:ext cx="74898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pil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Son espontáneas aquelas reaccións nas que E &gt; 0, así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  <a:ea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&lt; 0, que é  a condición de espontane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fill="hold">
                      <p:stCondLst>
                        <p:cond delay="0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37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40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4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5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4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1.-Contesta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Podemos utilizar calquera reacción redox de forma controlada como unha pila electroquímica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a fem dunha pila cando o proceso químico está en situación de equilibrio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teñen en común as pilas e as electrólises?¿En que se diferencian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nto vale 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G nunha electrólise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Que reacción ten lugar no cátodo?</a:t>
            </a: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Para un oxidante concreto a cantidade de materia que representa un equivalente gramo. ¿Ten sempre un valor úni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3"/>
          <p:cNvSpPr/>
          <p:nvPr/>
        </p:nvSpPr>
        <p:spPr>
          <a:xfrm>
            <a:off x="468360" y="256536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eq. F.e.m.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4"/>
          <p:cNvSpPr/>
          <p:nvPr/>
        </p:nvSpPr>
        <p:spPr>
          <a:xfrm>
            <a:off x="324000" y="141300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mpre qu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exa distinto de 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611280" y="3500280"/>
            <a:ext cx="799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omun: poseer ánodo e catodo. A enerxía manifestase en forma eléctr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iferencia: Na polaridade dos electrodos e no signo de ∆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755640" y="4653000"/>
            <a:ext cx="799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684360" y="5300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 catodo ten lugar a re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755640" y="630864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,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,  ou   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aría o valor do equivalente gra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40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80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414360"/>
            <a:ext cx="9144000" cy="495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2.-Considera os seguintes potenciais estándar de reducción Eº(Cl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Cl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1,36V  ;  Eº(I</a:t>
            </a:r>
            <a:r>
              <a:rPr b="1" lang="gl-E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) = 0,52V. Indica razoadamente: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das especies químicas presenta maior poder oxidante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é a mais reductora?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¿Cal será o proceso red-ox que en condicións estándar, poderá ter lug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684360" y="25574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axente mais reductor é o io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684360" y="140652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mais oxidante é o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755640" y="4292640"/>
            <a:ext cx="7489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½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I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½ I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fill="hold">
                      <p:stCondLst>
                        <p:cond delay="0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3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5" fill="hold">
                            <p:stCondLst>
                              <p:cond delay="25000"/>
                            </p:stCondLst>
                            <p:childTnLst>
                              <p:par>
                                <p:cTn id="1876" nodeType="after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22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4.-Dada a pila   Cu(s)   +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4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(aq)    </a:t>
            </a:r>
            <a:r>
              <a:rPr b="1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  Cu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 +   Sn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aq)  Eº= -0,19V na que tanto productos como reactivos están en condicións estándar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Calcula a variación da enerxía libre 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Determina se a reacción é espontánea de esquerda a dereita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reducción do cinc introducido nunha disolución 0,01M de sulfato de cinc (Eº = -0,76 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39640" y="2878200"/>
            <a:ext cx="748980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= -zFE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cuba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= 2 x 96500 x 0,19 = 36670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539640" y="35258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∆G &gt; 0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 pila non é espontán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7"/>
          <p:cNvSpPr/>
          <p:nvPr/>
        </p:nvSpPr>
        <p:spPr>
          <a:xfrm>
            <a:off x="539640" y="424656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   Zn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2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Z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8"/>
              <p:cNvSpPr txBox="1"/>
              <p:nvPr/>
            </p:nvSpPr>
            <p:spPr>
              <a:xfrm>
                <a:off x="826920" y="4678200"/>
                <a:ext cx="7704360" cy="91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n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8,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98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t xml:space="preserve"> 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2848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5.-Dada a pila  Mg / 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 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  //   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(10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M)/ Ag . Cos datos   Eº (M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Mg)= -2,37V e Eº(Ag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/Ag)=0,8V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a)Escribir as semireaccións correspondentes aos dous electrodos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b)Escribir a reacción global.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c)Calcula o potencial de cada electrodo</a:t>
            </a:r>
            <a:br>
              <a:rPr sz="2000"/>
            </a:b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d) Calcula a f.e.m. da p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3"/>
          <p:cNvSpPr/>
          <p:nvPr/>
        </p:nvSpPr>
        <p:spPr>
          <a:xfrm>
            <a:off x="466560" y="2205000"/>
            <a:ext cx="74901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Ánodo, oxidación:   Mg (s)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átodo, reducción:  Ag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+ 1e</a:t>
            </a:r>
            <a:r>
              <a:rPr b="0" lang="gl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   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468360" y="306864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b)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g  + 2 A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 Ag  + Mg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468360" y="3429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6"/>
              <p:cNvSpPr txBox="1"/>
              <p:nvPr/>
            </p:nvSpPr>
            <p:spPr>
              <a:xfrm>
                <a:off x="1116000" y="3357720"/>
                <a:ext cx="7920000" cy="28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át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ánodo</m:t>
                            </m:r>
                          </m:sub>
                          <m:sup>
                            <m:r>
                              <m:t xml:space="preserve">o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R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f>
                          <m:num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g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num>
                          <m:den>
                            <m:sSup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Ag</m:t>
                                        </m:r>
                                      </m:e>
                                      <m:sup>
                                        <m:r>
                                          <m:t xml:space="preserve">+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9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,3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98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l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9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7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7" name="Text Box 7"/>
          <p:cNvSpPr/>
          <p:nvPr/>
        </p:nvSpPr>
        <p:spPr>
          <a:xfrm>
            <a:off x="468360" y="573408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6" dur="indefinite" restart="never" nodeType="tmRoot">
          <p:childTnLst>
            <p:seq>
              <p:cTn id="1897" dur="indefinite" nodeType="mainSeq">
                <p:childTnLst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fill="hold">
                      <p:stCondLst>
                        <p:cond delay="indefinite"/>
                      </p:stCondLst>
                      <p:childTnLst>
                        <p:par>
                          <p:cTn id="1911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6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6.-Calcula o peso equivalente dos oxidantes nos seguintes proceso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95280" y="155736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) Dicromato potásico cando se reduce a Cr(I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395280" y="270828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) Permanganato potásico cando se reduce a Mn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395280" y="3933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) Ácido nítrico cando se reduc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6"/>
          <p:cNvSpPr/>
          <p:nvPr/>
        </p:nvSpPr>
        <p:spPr>
          <a:xfrm>
            <a:off x="971640" y="213372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6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2C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7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971640" y="314172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8"/>
          <p:cNvSpPr/>
          <p:nvPr/>
        </p:nvSpPr>
        <p:spPr>
          <a:xfrm>
            <a:off x="755640" y="3244680"/>
            <a:ext cx="669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5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M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826920" y="4508640"/>
            <a:ext cx="669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  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NO   +  2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              P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eq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P mol /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8" dur="indefinite" restart="never" nodeType="tmRoot">
          <p:childTnLst>
            <p:seq>
              <p:cTn id="1919" dur="indefinite" nodeType="mainSeq">
                <p:childTnLst>
                  <p:par>
                    <p:cTn id="1920" fill="hold">
                      <p:stCondLst>
                        <p:cond delay="0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9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7.- Ao efectuarse a electrólise dunha disolución de ácido clorhídrico despréndese cloro no ánodo. ¿Que volume de cloro a 1atm se desprenderá ó pasar unha corrente de 10 A durante unha ho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95280" y="1844640"/>
            <a:ext cx="7993080" cy="25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Cl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Cl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ous moles de electróns desprenden un mol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x 96.500 C  desprenden 22´4 litros de cl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carga da que se dispón é: Q = I.t = 10 A . 1h  =  10C/s .3600s  = 36000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ue desprenderá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Object 6"/>
              <p:cNvSpPr txBox="1"/>
              <p:nvPr/>
            </p:nvSpPr>
            <p:spPr>
              <a:xfrm>
                <a:off x="2556000" y="3716280"/>
                <a:ext cx="3240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000</m:t>
                    </m:r>
                    <m:r>
                      <m:t xml:space="preserve">C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96500</m:t>
                        </m:r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´</m:t>
                    </m:r>
                    <m:r>
                      <m:t xml:space="preserve">1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6" dur="indefinite" restart="never" nodeType="tmRoot">
          <p:childTnLst>
            <p:seq>
              <p:cTn id="1937" dur="indefinite" nodeType="mainSeq">
                <p:childTnLst>
                  <p:par>
                    <p:cTn id="1938" fill="hold">
                      <p:stCondLst>
                        <p:cond delay="0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4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25000"/>
                            </p:stCondLst>
                            <p:childTnLst>
                              <p:par>
                                <p:cTn id="19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8.-Temos dúas vasillas, unha contendo unha disolución de nitrato de prata e outra con ácido sulfúrico diluído. Ao pasar a corrente eléctrica simultaneamente a través de ámbalas dúas disolucións, na 1ª se depositan 0,093 g de prata e na segunda se desprenden 9´6ml de hidróxeno, medidos en condicións normais. ¿Cal é a masa atómica da pr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( x g)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"/>
          <p:cNvSpPr/>
          <p:nvPr/>
        </p:nvSpPr>
        <p:spPr>
          <a:xfrm>
            <a:off x="5292720" y="2381400"/>
            <a:ext cx="345600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 desprenden 22´4 lit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Object 7"/>
              <p:cNvSpPr txBox="1"/>
              <p:nvPr/>
            </p:nvSpPr>
            <p:spPr>
              <a:xfrm>
                <a:off x="1763640" y="3429000"/>
                <a:ext cx="5602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ml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f>
                      <m:num>
                        <m:r>
                          <m:t xml:space="preserve">2</m:t>
                        </m:r>
                        <m:r>
                          <m:t xml:space="preserve">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´</m:t>
                        </m:r>
                        <m:r>
                          <m:t xml:space="preserve">4</m:t>
                        </m:r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F</m:t>
                        </m:r>
                      </m:den>
                    </m:f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´</m:t>
                    </m:r>
                    <m:r>
                      <m:t xml:space="preserve">6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mo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3" name="Text Box 9"/>
          <p:cNvSpPr/>
          <p:nvPr/>
        </p:nvSpPr>
        <p:spPr>
          <a:xfrm>
            <a:off x="684360" y="472428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abendo que 8´6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oles de prata son 0´093 gramos, deducimos que a masa de un mol será 108´5 g de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7" dur="indefinite" restart="never" nodeType="tmRoot">
          <p:childTnLst>
            <p:seq>
              <p:cTn id="1958" dur="indefinite" nodeType="mainSeq">
                <p:childTnLst>
                  <p:par>
                    <p:cTn id="1959" fill="hold">
                      <p:stCondLst>
                        <p:cond delay="0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4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7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0" y="419040"/>
            <a:ext cx="9144000" cy="185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19.-Vaise a pratear electroquimicamente unha superficie metálica de 12,5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ata conseguir un recubrimento de 1mm de grosor, utilizando unha corrente de 0,5A. A densidade da prata é 10,5 g/cm</a:t>
            </a:r>
            <a:r>
              <a:rPr b="1" lang="gl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, e a súa masa atómica 108. Calcular: a cantidade de electricidade neces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3"/>
          <p:cNvSpPr/>
          <p:nvPr/>
        </p:nvSpPr>
        <p:spPr>
          <a:xfrm>
            <a:off x="395280" y="2381400"/>
            <a:ext cx="4248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g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1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F  depositan 1 mol de pr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635280" y="2381400"/>
            <a:ext cx="5113440" cy="25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2,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c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x1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m 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1,25.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6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.10,5. 10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kg/m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 13,12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Ag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=0,12 m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Q= 0,12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Q/I = 0,12. 96500C / 0,5A = 23160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t= 6h 26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418680"/>
            <a:ext cx="9144000" cy="106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0.-Na electrólise dunha sal de ouro descoñecida obtivéronse 3,09 g de ouro facendo pasar 4550C. ¿Cal é o equivalente do ouro nesa s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Object 5"/>
              <p:cNvSpPr txBox="1"/>
              <p:nvPr/>
            </p:nvSpPr>
            <p:spPr>
              <a:xfrm>
                <a:off x="1523880" y="2425680"/>
                <a:ext cx="6096240" cy="28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9</m:t>
                        </m:r>
                        <m:r>
                          <m:t xml:space="preserve">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97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zF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ol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u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16</m:t>
                        </m:r>
                        <m:r>
                          <m:rPr>
                            <m:lit/>
                            <m:nor/>
                          </m:rPr>
                          <m:t xml:space="preserve">z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550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F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6500</m:t>
                            </m:r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47</m:t>
                        </m:r>
                        <m:r>
                          <m:t xml:space="preserve">F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Pm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Axusta (continu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211640" y="764640"/>
            <a:ext cx="4114800" cy="4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5280" y="213372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0" y="1700280"/>
            <a:ext cx="87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úmanse as semireacció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395280" y="342900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6"/>
          <p:cNvSpPr/>
          <p:nvPr/>
        </p:nvSpPr>
        <p:spPr>
          <a:xfrm>
            <a:off x="395280" y="4005360"/>
            <a:ext cx="7920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S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1116000" y="5373720"/>
            <a:ext cx="5256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S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0" lang="gl-E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0" y="306216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implifícase a ecuación iónic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"/>
          <p:cNvSpPr/>
          <p:nvPr/>
        </p:nvSpPr>
        <p:spPr>
          <a:xfrm>
            <a:off x="0" y="4869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dedúcese a ecuación mole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b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2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39640" y="32907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0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1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por catro  a 2ª semireacción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2"/>
          <p:cNvSpPr/>
          <p:nvPr/>
        </p:nvSpPr>
        <p:spPr>
          <a:xfrm>
            <a:off x="250920" y="422604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3"/>
          <p:cNvSpPr/>
          <p:nvPr/>
        </p:nvSpPr>
        <p:spPr>
          <a:xfrm>
            <a:off x="250920" y="473076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4 Fe  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4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3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5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4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5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7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450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1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8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3500"/>
                            </p:stCondLst>
                            <p:childTnLst>
                              <p:par>
                                <p:cTn id="1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5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25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7500"/>
                            </p:stCondLst>
                            <p:childTnLst>
                              <p:par>
                                <p:cTn id="1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8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9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c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95280" y="1273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Fe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Fe(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971640" y="170640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348000" y="1274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95280" y="27147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468360" y="177948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427640" y="177948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66560" y="2138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659640" y="1274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995640" y="1274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1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4930920" y="1268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826920" y="314784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3132000" y="27874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39640" y="3141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4788000" y="27874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oito, e á 1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250920" y="4357800"/>
            <a:ext cx="7634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Fe  +  30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0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Fe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Fe( 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N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9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4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9500"/>
                            </p:stCondLst>
                            <p:childTnLst>
                              <p:par>
                                <p:cTn id="1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1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8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3500"/>
                            </p:stCondLst>
                            <p:childTnLst>
                              <p:par>
                                <p:cTn id="1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5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7500"/>
                            </p:stCondLst>
                            <p:childTnLst>
                              <p:par>
                                <p:cTn id="19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45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8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395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d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140360" y="404640"/>
            <a:ext cx="460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NO + 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N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5280" y="2565360"/>
            <a:ext cx="30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6659640" y="105876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3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3132000" y="2571840"/>
            <a:ext cx="511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292572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3490920" y="2565360"/>
            <a:ext cx="136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216000" y="379404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1ª semireacción por oito, e á 2ª por tres. Súmanse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4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6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4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250920" y="4862520"/>
            <a:ext cx="720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3 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8 NO  + 3 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2771640" y="5799240"/>
            <a:ext cx="565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8 HN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8 NO  + 3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4500720" y="2924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4"/>
          <p:cNvSpPr/>
          <p:nvPr/>
        </p:nvSpPr>
        <p:spPr>
          <a:xfrm>
            <a:off x="5867280" y="2565360"/>
            <a:ext cx="111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5"/>
          <p:cNvSpPr/>
          <p:nvPr/>
        </p:nvSpPr>
        <p:spPr>
          <a:xfrm>
            <a:off x="539640" y="3284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6"/>
          <p:cNvSpPr/>
          <p:nvPr/>
        </p:nvSpPr>
        <p:spPr>
          <a:xfrm>
            <a:off x="6948360" y="2565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450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9500"/>
                            </p:stCondLst>
                            <p:childTnLst>
                              <p:par>
                                <p:cTn id="2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31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8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3500"/>
                            </p:stCondLst>
                            <p:childTnLst>
                              <p:par>
                                <p:cTn id="26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2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7500"/>
                            </p:stCondLst>
                            <p:childTnLst>
                              <p:par>
                                <p:cTn id="27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4500"/>
                            </p:stCondLst>
                            <p:childTnLst>
                              <p:par>
                                <p:cTn id="29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7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65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4500"/>
                            </p:stCondLst>
                            <p:childTnLst>
                              <p:par>
                                <p:cTn id="31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6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8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6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9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e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95280" y="1057320"/>
            <a:ext cx="28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348000" y="1058760"/>
            <a:ext cx="51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oxídase a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443640" y="1052640"/>
            <a:ext cx="1152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399564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2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3851280" y="2565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dous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6"/>
          <p:cNvSpPr/>
          <p:nvPr/>
        </p:nvSpPr>
        <p:spPr>
          <a:xfrm>
            <a:off x="550872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7"/>
          <p:cNvSpPr/>
          <p:nvPr/>
        </p:nvSpPr>
        <p:spPr>
          <a:xfrm>
            <a:off x="250920" y="479124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Br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             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Br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2 F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8"/>
          <p:cNvSpPr/>
          <p:nvPr/>
        </p:nvSpPr>
        <p:spPr>
          <a:xfrm>
            <a:off x="971640" y="5734080"/>
            <a:ext cx="748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 Fe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O + 6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2 Fe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HBr + 2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 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1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4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9500"/>
                            </p:stCondLst>
                            <p:childTnLst>
                              <p:par>
                                <p:cTn id="36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15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43500"/>
                            </p:stCondLst>
                            <p:childTnLst>
                              <p:par>
                                <p:cTn id="3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5500"/>
                            </p:stCondLst>
                            <p:childTnLst>
                              <p:par>
                                <p:cTn id="37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7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5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0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417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414000"/>
            <a:ext cx="91440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gl-ES" sz="2000" spc="-1" strike="noStrike">
                <a:solidFill>
                  <a:srgbClr val="000000"/>
                </a:solidFill>
                <a:latin typeface="Arial"/>
              </a:rPr>
              <a:t>2.- f) Axusta a reacción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395280" y="1057320"/>
            <a:ext cx="2881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redúcese a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059280" y="404640"/>
            <a:ext cx="568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 +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971640" y="1490760"/>
            <a:ext cx="547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3348000" y="1058760"/>
            <a:ext cx="51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395280" y="2565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oxídase a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468360" y="15638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se o osíxeno con au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4427640" y="156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2º axústase o hidróxeno con prot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466560" y="192240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3º axústanse as cargas con electró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659640" y="1052640"/>
            <a:ext cx="115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138560" y="10587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930920" y="1052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 8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826920" y="2932200"/>
            <a:ext cx="547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5"/>
          <p:cNvSpPr/>
          <p:nvPr/>
        </p:nvSpPr>
        <p:spPr>
          <a:xfrm>
            <a:off x="3203640" y="2565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Zn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6"/>
          <p:cNvSpPr/>
          <p:nvPr/>
        </p:nvSpPr>
        <p:spPr>
          <a:xfrm>
            <a:off x="216000" y="3794040"/>
            <a:ext cx="86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Multiplícase a 2ª semireacción por catro, e súmase á 1ª simplificando o resul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250920" y="4357800"/>
            <a:ext cx="871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8"/>
          <p:cNvSpPr/>
          <p:nvPr/>
        </p:nvSpPr>
        <p:spPr>
          <a:xfrm>
            <a:off x="324000" y="536724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 ecuación molecular axustada resulta: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9"/>
          <p:cNvSpPr/>
          <p:nvPr/>
        </p:nvSpPr>
        <p:spPr>
          <a:xfrm>
            <a:off x="539640" y="306864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1º axústanse as cargas con electró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50920" y="4791240"/>
            <a:ext cx="6481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8 H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        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gl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 As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  + 4 Zn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+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971640" y="5734080"/>
            <a:ext cx="604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AsO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4 Zn + 8 HCl </a:t>
            </a:r>
            <a:r>
              <a:rPr b="0" lang="gl-ES" sz="1800" spc="-1" strike="noStrike" baseline="30000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As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 ZnCl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 + 4H</a:t>
            </a:r>
            <a:r>
              <a:rPr b="0" lang="gl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788000" y="256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l-ES" sz="1800" spc="-1" strike="noStrike">
                <a:solidFill>
                  <a:srgbClr val="000000"/>
                </a:solidFill>
                <a:latin typeface="Arial"/>
              </a:rPr>
              <a:t>+ 2 e</a:t>
            </a:r>
            <a:r>
              <a:rPr b="0" lang="gl-E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5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29500"/>
                            </p:stCondLst>
                            <p:childTnLst>
                              <p:par>
                                <p:cTn id="44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1500"/>
                            </p:stCondLst>
                            <p:childTnLst>
                              <p:par>
                                <p:cTn id="44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38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43500"/>
                            </p:stCondLst>
                            <p:childTnLst>
                              <p:par>
                                <p:cTn id="4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55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2500"/>
                            </p:stCondLst>
                            <p:childTnLst>
                              <p:par>
                                <p:cTn id="463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7500"/>
                            </p:stCondLst>
                            <p:childTnLst>
                              <p:par>
                                <p:cTn id="46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5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7500"/>
                            </p:stCondLst>
                            <p:childTnLst>
                              <p:par>
                                <p:cTn id="48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8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95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1500"/>
                            </p:stCondLst>
                            <p:childTnLst>
                              <p:par>
                                <p:cTn id="494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9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95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8T15:41:23Z</dcterms:created>
  <dc:creator>PARTICULAR</dc:creator>
  <dc:description/>
  <dc:language>en-US</dc:language>
  <cp:lastModifiedBy>PROFESORADO</cp:lastModifiedBy>
  <dcterms:modified xsi:type="dcterms:W3CDTF">2012-12-05T12:34:40Z</dcterms:modified>
  <cp:revision>33</cp:revision>
  <dc:subject/>
  <dc:title>Reaccións de oxidación reducción</dc:title>
</cp:coreProperties>
</file>